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FC5-73C5-4CA3-BF95-CD1AD9A9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E19-756B-45C4-A938-22E3A17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8D9E0-AD5F-4124-9F46-419CC6DE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452F0-9E72-446B-8110-BB3B591D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CA06C-AB77-4E54-B98B-690990F6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144A0-72E8-4972-8812-9057F5C9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DC883-95DE-4F9A-9AD5-03167B6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E780C-4827-4D8F-853D-6E38EA7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FAA14-3F2C-400F-AE41-809A3BDA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90D51-3E64-4294-B598-CEE47F58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F7575-B58C-4219-9DAD-397DA808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34CA6-D525-4CBE-9A71-2071E823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92E-C21B-42DA-B6A1-BB26AFD8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09345-0475-4EE4-AA3B-90B494DF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00C72-A812-4151-BDF5-B5D3DED4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86511-B017-4CD3-9255-78ED2D0C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24708-0B29-4EE5-9639-92E164B1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79BF57-BF66-4ECE-AF7E-30E052DF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A116B-A5E3-4DF3-884D-14E524D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0B2F7-EFAE-4379-94D7-775AE0F6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66DC2-A3BC-467A-916B-DDA80CC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6E2EA-7CA5-499D-915D-9EBA8F6A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61A6B-9DFF-44B3-A0CE-69639E1E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80C-BF01-4C46-874A-00272002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D9540-CC5D-43F3-A189-453C48CBC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E64-310E-4D1C-BA19-E60C16723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C939-61AE-4FB3-A9CD-8F906858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FBF6-94CA-4852-8506-37B88229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7559-A919-4892-9254-07078CEB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089E-53D5-4300-8725-F38BBB68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9CB8-30C6-47B1-BDC5-884253B2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EDEF2-E713-4200-B418-5730F6C5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E06E-C042-4EBA-B534-5FBD24E5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D65B-615B-486E-8782-9B0E2E6E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72E-D19D-4B0F-99C9-EB193B9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BACD-EA84-419B-8889-DF853F48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419F-920B-415B-924D-929F198BD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B5EC-A341-41E8-9835-2D21A42C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0B53B-EDD6-4CEE-AB46-7F62A80B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CDE1-6DBE-47E6-BDEB-61D093B0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7EDF-9763-417C-9CEC-00231B4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3DF8-6936-43A9-A06E-4E35BE97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14BE3-C631-4B09-9DB9-7426AF17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B3E-84D4-4ABF-BA79-ECF7E4B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0EBC2-6CF9-4797-A843-49D793B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57CB2-A6B4-4FC5-98E5-A6559F62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634F4-FA2E-4606-96E2-B4B6E45D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0C03-0B4F-4842-BFF8-1BA3BD2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F6AE-6B65-4467-BDAB-F0A186596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EBB7-8AE4-441B-88E3-760BA91B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FCEB6-8A98-4E7C-A5E2-C27E2F86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C3E3-E629-452D-A301-4F11644CE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2CDEE-0CF7-4458-8E3A-86999EB2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2D39-8ED6-4C51-A9F7-2B40FCD4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AD5-80E1-4227-A117-09F5E290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BD446-FA5B-40B9-8D48-A70009B7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4DCE1-BCAF-4A6D-8260-6C3EEA5E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CE8D-C776-474F-B507-48947917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A51E-B7E7-40A1-BD52-0B09C23C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D816A-4865-4DCD-B979-2D7FBB98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3C9A8-4C02-4862-82A6-5082AFE9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9A380-4635-4A4D-9C04-00BBB73E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6D685-BA09-4C8D-BE70-AF060090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68302-D40C-4183-84DA-057B4B10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3F5B4-8B6B-4A89-87AB-DC07FA7A1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89C-505E-4326-8975-091CC0E0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9802-68E7-4571-9E8A-A4E04FFF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F7A74-28DE-41A2-89D9-8B9D829C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6E0A3-279C-4320-9875-34A6BCFA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5FA2-D3D4-4F54-B49C-D18451CF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0D66A-2542-426D-8676-4127ABB1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0D56F-F551-4F57-B689-5046AB6F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8CA0C-D13E-4D9C-9E47-0CE0956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A2A67-7B54-4BE6-B6AC-A913E915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9513-9EAF-4DF6-B20A-DFDE297A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5CC04-7F6F-419E-AFA9-94477BA82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528D-33B7-42E0-B5D8-BF3D474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1D711-C307-4ABD-BC89-5F21C461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80F91-ACCC-4583-BA0A-6418F04F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71C83-668E-4945-A42D-48B5E7C0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8A5E4-4C66-4E98-BF86-C769644B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CB57A-FDA1-450F-ACEE-B8BEDA83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09717-5992-4576-A8D8-26E26EBA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6300-5EA6-4271-A9D6-5E476972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564B1-CD62-4B49-8E04-E2E8AC22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676C2-81BC-4343-8182-ED79DB93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7826C-36A8-4F0E-831F-7EF3446F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490-445C-4AA7-8030-08D4ECD1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B9743-A60A-43E6-B9A3-0A4BAB97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D43AE-38AE-40CC-841F-7D755AAFB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B013C-E36A-4A6B-A195-B98DBE78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A7F16-AFF7-4531-B78F-D22126D4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D3C34-ECE5-433F-B448-28F803F5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34978-F816-4F53-A5D7-401DC2B6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74CB-1B3D-4A4C-900A-1AA63D14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72E84-70E0-4727-AEF2-D7154190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6709F-A66C-4327-9BC6-3704C2B3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EA9BA-8E63-4425-ADA4-DF96308A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A90-A4D7-4DED-B87B-CFB84B7E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59285-401C-4F17-90E5-D908B1C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D345B-BDEF-486D-B555-B2EADB69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FC654-77FA-4FD8-BA4E-9A8F4B08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817EE-2158-4FEA-85D7-3B09389F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E350C-A85D-485A-B5BA-BBAD00B2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6D758-F6E1-4063-AAC1-E18E211A5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934BC-AE94-4B4D-8482-ADD1B51A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909AD-91EF-4EEB-B5FD-12CBCB96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4A346-F0F8-4C95-910B-E43D7CBA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B0121-A3E6-458E-85FA-B6A53846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6A7-C14D-400C-94F3-E6D6DE06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B7D3F-B8FF-46B5-AF5F-4101B577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DE18E-7BF3-45D1-AF73-AA2A6422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4C76D-51D3-4C7E-9CF5-D01EEA51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7E3D4-735E-46B8-A496-B9C5300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CEDD7-69DA-41F8-92CF-AE4DDB06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5297-62B6-426E-9AF0-2134FF47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5C279-A182-41EC-8139-7D0FCBF4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7BC3A-B847-48D7-A4E1-8F22C780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42CF9-9813-496A-929C-60E6E064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B7B54-E74A-4A98-9428-40090715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060B-48BA-4DBB-8308-6CC0E25D76B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FF94-7BB5-4684-B0BA-6F4A615623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A9F-321C-4E4E-A766-A56EA1D2C94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96C5-FB29-4E7D-BEB8-9F972C36284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9304-77AE-497D-865C-62349B9829B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B5E4-FC4C-4759-BFF9-B4DB9309C1A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C2E-03E8-4A35-ADB2-42556438327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A74-5348-4656-AA1F-B883C8D74B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DCF-12C7-4E06-8DD4-1C561D79DE1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5AFC-C85B-4E4C-A557-4E19D2258B5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9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느 나라에서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국 사람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미국 사람이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미영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그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임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영국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미국 사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meri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그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 (t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영국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be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의사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는 부산이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가 아닙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≈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 which; interogative adj. always followed by a noun (cf.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느 것이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나라 사람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느 회사에서 일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음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독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캐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프랑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호 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oom number ~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 음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아닙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캐나다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브라운 씨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7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3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나라에서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독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느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201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롯데백화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호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라호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2-03T16:57:09Z</dcterms:modified>
  <cp:revision>104</cp:revision>
  <dc:subject/>
  <dc:title>KOREAN LANGUAGE</dc:title>
</cp:coreProperties>
</file>